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B00-A037-4E31-83DF-9259974B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48A-96BE-44F6-B94D-1D842D7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44F-EFC9-457C-BF6F-396BC52B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182-3315-4E38-B731-DF77F40E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CB03-206D-4971-B833-68D81F0B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B1C-BD59-4AEA-8BBC-1D78DA4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517-D9F7-47CA-AFD7-CDA2A83F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1675-E2B2-49C8-BBCF-2351FA6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6CF-3922-4176-B30D-498BD5D0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92EC-2F35-43B0-832E-072A4D32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14B3-9B4C-46F2-9776-BB202D4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7F7-4B5A-49D6-9E06-4A85DCA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DCC5-1ACC-4C9A-AC72-28FA831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C698-8D2D-40D2-A10D-B2174B4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B602-867D-458F-B0EB-08FDA2BF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DF4-F491-4455-B4BE-653362D7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8A81-158A-4F1F-87FE-A1D003B6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F8E-2952-48BC-B489-01B90A1E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663-307A-47B7-BE8F-212DBC9C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50D-FC87-43AA-B675-9F8FE30D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629-C033-44E6-83EA-64C0077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9A0-4BC9-4A44-ADF1-5C4B5C1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0D5-D7CD-48A9-A7BA-2E959A5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C3C-900A-4456-A478-EC91B78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A490-20C4-43A7-B745-36F97D382A9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1F71-AFF3-4303-A0E5-1D2E5A1AF83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0080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8345520" cy="171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pons of Mass Destruction and the Objectives of the New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twar: A New Organizational The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; Asymmetrical Warf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34552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Weapons of Mass Destruction and the Objectives of the New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ttracting Atten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leasing Go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maging Econom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fluencing Enem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34552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Netwar: A New Organizational The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miautonomous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ain Net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r, Hub, or Wheel Net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l-Channel Net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345520" cy="198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Asymmetrical Warf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conventional, Unexpected, and Unpredict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define International Security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come Traditional Protec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132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-360" y="19047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untering Extrem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untering the New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156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untering Extrem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ng-Term Solu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ons Other than W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mitations of Coerc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156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untering the New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Measu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vert “Shadow War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unterterrorist Financial Ope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obal Surveillance of Communications Techn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dentifying and Disrupting Transnational Terrorist Cells and Support Net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Threats and Vulnerabilities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467560" cy="140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2362320"/>
            <a:ext cx="91440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Sea Change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The New Terrorism and Homeland Securit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re-September 11 Terrorist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xy War: The Cold War and the “Old Terrorism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1950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Pre-September 11 Terrorist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eft-Wing Terrorist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thnonationalist Terrorist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Palestinian Nationalist Terrorist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ligious Terrorist Environment and the Dawn of the New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1950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Proxy War: The Cold War and the “Old Terrorism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valry Between East and W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rs of National Libe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ism and Marx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1682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9047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igion and Terrorism in the Modern Er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The New Terrorism and Globaliz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-73080" y="30240"/>
            <a:ext cx="9551880" cy="2097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Religion and Terrorism in the Modern Er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mon Principles of Religious Extrem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Central Feature of the New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 Qaeda and Islamist All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73080" y="30240"/>
            <a:ext cx="9551880" cy="209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The New Terrorism and Globaliz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ffect of Political and Economic Integ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portunities for Terrorist Maximum Imp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ffect of New Information Techn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6-30T23:38:53Z</dcterms:modified>
  <cp:revision>125</cp:revision>
  <dc:subject/>
  <dc:title>Slide 1</dc:title>
</cp:coreProperties>
</file>